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11.wmf" ContentType="image/x-wmf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DF40-98D7-45DB-BDE4-993FD7623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C92A-D2D9-4F94-B226-C1A8C121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0B42-789D-4D5C-941D-930F14BCD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7446-EE60-4BD4-A341-4B891D996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F1D4-54A5-43D0-A2A6-2F1009DE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DDAA-F647-4DF1-8D7B-AED95ACC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CE0D4-2E30-48CB-A13A-39F0CD4B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3C88-EDB4-47D9-85F9-AEAB4141F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1A33-3BE0-436A-B847-F154B23F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60AFB-E170-4CB2-9B6F-523DB913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384E-DD33-4EC4-856F-A19B11FC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14E-04E2-4EA8-A374-615CC07F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7775-C11D-4FE0-8606-64DDF8D6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59384-757B-45AE-A13D-453AD0FA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827D-E7EC-4004-98D1-593A6C7C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0BC9-2728-406C-8667-EA37E1586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7EEC1-E817-4E9B-9DEE-4ECDB3BA3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18B-7B6C-494B-A673-630B01B65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1CB3-D69A-44C6-910D-05554119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9B7D-0106-46EC-8579-D53B665F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8E7-3EED-42F1-AC73-AAC101D1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B743-1615-460C-9161-23FF52E5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C186-BEC9-42AC-BF66-39DFDA783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C4C6-2972-4D3B-AC69-46175950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8FAEC-28A6-47CE-A8AA-E32B2512F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7CE2-E7ED-4EAE-B332-BF6854B12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1981080"/>
            <a:ext cx="8218440" cy="20448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ML Diagrams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tatic Analysis Model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8080" y="4044600"/>
            <a:ext cx="6387840" cy="173988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ructor: Dr. Hany H. Am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t. of Computer Science and Electrical Engineering, WV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Package diagram"/>
          <p:cNvPicPr/>
          <p:nvPr/>
        </p:nvPicPr>
        <p:blipFill>
          <a:blip r:embed="rId1"/>
          <a:stretch/>
        </p:blipFill>
        <p:spPr>
          <a:xfrm>
            <a:off x="990720" y="990720"/>
            <a:ext cx="7486560" cy="5276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1966680" y="142920"/>
            <a:ext cx="44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System packag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alysis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analysis level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la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agrams are refined by adding relationships between classe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ttributes and metho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icting how objects of the static view are used to realize use cas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n sequence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hasis is placed on distributing behavior, resolving software interfaces, and identifying generalization relationships that will maximize the effectiveness of the objec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 Diagram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classes, attributes of each class, and operations of each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, their attributes and methods are specified based on the objects needed to realized use case and interfaces to external ent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4191120"/>
            <a:ext cx="3200400" cy="18478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838840" y="4038480"/>
            <a:ext cx="3305160" cy="2238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734280" y="3962520"/>
            <a:ext cx="2129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ai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ribu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yp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opera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defin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ring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ntify Class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2209680"/>
            <a:ext cx="1523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2209680"/>
            <a:ext cx="190476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cr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438280" y="2590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304812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oci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267080"/>
            <a:ext cx="152388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52680" y="4267080"/>
            <a:ext cx="190512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286000" y="45716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45720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438280" y="47242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2285640" y="47242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146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371600" y="5410080"/>
            <a:ext cx="405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ion (hollow diamond)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sition (solid diamo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4114800"/>
            <a:ext cx="190512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324480" y="2286000"/>
            <a:ext cx="152424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7086600" y="3352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200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7010280" y="320040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10280" y="33526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53341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Between Clas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 between classes are generally shown as solid lines connecting the associated clas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notable exceptions to the solid line rule are the use of dashed lines to depic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cies as special case of associa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ion 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ic, structural relationship between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, Employee works in Depart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ity of Associ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how many instances of one class may relate to a single association,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ny hasPresi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to-many association,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k managesAc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 association (0, 1, or many)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–Customer ownsCredit Card instance of another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to-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-to-Many association –Course has Student, 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udent attends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endency: A Special Case of Asso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pend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192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2057400"/>
          <a:ext cx="6933960" cy="248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6933960" cy="24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609120" y="4800600"/>
            <a:ext cx="791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Manager (Client class) depends on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d by the other three server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471280" y="2124000"/>
            <a:ext cx="10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ggregation Rel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gregation 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hollow diamond is attached to the end of the path to indicate aggregation. The diamond is attached to the class that is the aggregate. Aggregation provides a definitive conceptual whole part relation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Recursive class diagram"/>
          <p:cNvPicPr/>
          <p:nvPr/>
        </p:nvPicPr>
        <p:blipFill>
          <a:blip r:embed="rId1"/>
          <a:stretch/>
        </p:blipFill>
        <p:spPr>
          <a:xfrm>
            <a:off x="1600200" y="2971800"/>
            <a:ext cx="6343560" cy="240048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514600" y="6858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ggregatio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sition: A Special Case of Aggreg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tion is shown as a solid filled diamond, with the diamond attached to the class that is the composite. Composition is a form of aggregation that requires coincident lifetime of the part with the whole and singular ownership; i.e. the part is owned by only one whole and is deleted when the whole is delet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7644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685800" y="4800600"/>
          <a:ext cx="7696080" cy="13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800600"/>
                    <a:ext cx="7696080" cy="13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925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ments Model and the Analysis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tatic Analysis Model – The Analysis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nceptual Level - Identifying the Classes of Objects (Step 6 Requirements Elicitation Process: Identify Initial Analysis Objec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Analysis Level –  Identifying Class relationships, class attributes, and class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osition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153280" cy="43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gregation vs Compo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523880" y="2362320"/>
            <a:ext cx="6096240" cy="36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/Specialization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 is shown as a solid-line arrow from the child (the more specific element) to the parent (the more general element) this type of relationship is also called inheri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ould be used to define class hierarchies based on abstr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ization/Specialization Re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38080" y="4648320"/>
            <a:ext cx="266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UML class diagram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42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icity of Relationshi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04920" y="1981080"/>
          <a:ext cx="8838360" cy="4113360"/>
        </p:xfrm>
        <a:graphic>
          <a:graphicData uri="http://schemas.openxmlformats.org/drawingml/2006/table">
            <a:tbl>
              <a:tblPr/>
              <a:tblGrid>
                <a:gridCol w="1787760"/>
                <a:gridCol w="70506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Multiplic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0.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zero or one instance. The notation </a:t>
                      </a:r>
                      <a:r>
                        <a:rPr b="1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n . . m</a:t>
                      </a: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indicates </a:t>
                      </a:r>
                      <a:r>
                        <a:rPr b="1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to</a:t>
                      </a:r>
                      <a:r>
                        <a:rPr b="0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m</a:t>
                      </a: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instanc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0..*</a:t>
                      </a:r>
                      <a:r>
                        <a:rPr b="0" i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  or  </a:t>
                      </a: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no limit on the number of instances (including none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7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exactly one instance (the defaul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1..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f4c4d"/>
                          </a:solidFill>
                          <a:latin typeface="Verdana"/>
                          <a:ea typeface="ＭＳ 明朝"/>
                        </a:rPr>
                        <a:t>at least one inst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Class diagram"/>
          <p:cNvPicPr/>
          <p:nvPr/>
        </p:nvPicPr>
        <p:blipFill>
          <a:blip r:embed="rId1"/>
          <a:stretch/>
        </p:blipFill>
        <p:spPr>
          <a:xfrm>
            <a:off x="1295280" y="1066680"/>
            <a:ext cx="7359840" cy="5251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447920" y="0"/>
            <a:ext cx="673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ample of identifying Class Multiplicitie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ttributes and oper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38080" y="343080"/>
            <a:ext cx="7772400" cy="11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all the Digital Sound Recorder Case Study Requiremen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8738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ound Record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sis Level Class Diagra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a Design Level Class Diagram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codeproject.com/library/WinSNMPWrapper.asp?df=100&amp;forumid=216441&amp;exp=0&amp;select=12592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80010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of Software Architecture Using UML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CONTROL SYSTEM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57200" y="2362320"/>
            <a:ext cx="8153280" cy="41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Requirements Model and the Analysis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657600" y="4267080"/>
            <a:ext cx="23623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57600" y="403848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2362320"/>
            <a:ext cx="236196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nctional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fun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213372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32320" y="2631960"/>
            <a:ext cx="2672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ase Diagram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quence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ystem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3720" y="4419720"/>
            <a:ext cx="2919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Class Dia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tate Diagram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ined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agrams (The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31000" y="2251080"/>
            <a:ext cx="19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ci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508400" y="4156200"/>
            <a:ext cx="179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52880" y="3505320"/>
            <a:ext cx="0" cy="609480"/>
          </a:xfrm>
          <a:prstGeom prst="line">
            <a:avLst/>
          </a:prstGeom>
          <a:ln w="76320">
            <a:solidFill>
              <a:srgbClr val="99ccff"/>
            </a:solidFill>
            <a:miter/>
            <a:headEnd len="med" type="diamond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4724280"/>
            <a:ext cx="30492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5105520"/>
            <a:ext cx="228600" cy="0"/>
          </a:xfrm>
          <a:prstGeom prst="line">
            <a:avLst/>
          </a:prstGeom>
          <a:ln w="5724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mple Example of Software Architecture Using UML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TELLITE CONTROL SYSTEM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8153640" cy="421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925040" cy="47242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86040" y="0"/>
            <a:ext cx="703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Auto Cruis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Auto Cruise Contro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Monito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Auto Cruise Contro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Monito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atic Model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ass Diagra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lass is defined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world entity type about which information is sto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s a collection of identical objects (instances)–Described by means of attributes (data ite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operations to access data maintained by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object instance can be uniquely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onships between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oci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tion / Aggre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 / Spec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tatic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es the static structure of the logical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classes, class hierarchies using packages, classes, and their relationship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olve in three phases the conceptual phase, the analysis phase, and the design ph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ceptual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the conceptual phase, classes are defined based on th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asses found in the problem domain descriptions (based on the objects identified in step 6 in the Requirements Elicitation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ext class diagram is defined first, where the system under development is represented by one package and external classes representing the ac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text Class Diagram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s the Boundary of the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2438280"/>
            <a:ext cx="144756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external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De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3581280"/>
            <a:ext cx="23623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 un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52680" y="3352680"/>
            <a:ext cx="114300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4600" y="327672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286000"/>
            <a:ext cx="6094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3080" y="2819520"/>
            <a:ext cx="1676520" cy="990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external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2590920"/>
            <a:ext cx="838440" cy="2286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715000" y="327636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6080" y="5181480"/>
            <a:ext cx="774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y the classes of the external input/output devices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actors (users, other systems, etc.) and the system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4038480"/>
            <a:ext cx="1447920" cy="838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lt;&lt;external&gt;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86200"/>
            <a:ext cx="6094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666880" y="419076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ceptual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stem package is defined by a diagram representing the main classes and interface classes to external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ubsystem is represented by a class diagram defining the classes of objects needed to realize the use cases defined in the use case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ereotype words &lt;&lt;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rnal&gt;&gt; or &lt;&lt;actor&gt;&gt; are used to specify external classes or pack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 of external packages should reflective of the classes defined in the pack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nceptual Lev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the system classes  as Interface objects, Monitors objects, controllers object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0920" y="3352680"/>
            <a:ext cx="167616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ito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590920" y="3200400"/>
            <a:ext cx="8380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2895480"/>
            <a:ext cx="190512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Interface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_devic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743200"/>
            <a:ext cx="121932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3809880"/>
            <a:ext cx="304920" cy="3812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029200" y="3352680"/>
            <a:ext cx="13716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200400"/>
            <a:ext cx="68580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5181480"/>
            <a:ext cx="2286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&lt;Interface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_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5029200"/>
            <a:ext cx="1066680" cy="15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267080" y="3886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19920" y="4343400"/>
            <a:ext cx="1523880" cy="83808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Preferred Customer</dc:creator>
  <dc:description/>
  <dc:language>en-US</dc:language>
  <cp:lastModifiedBy>Ammar</cp:lastModifiedBy>
  <cp:lastPrinted>1996-08-19T15:43:24Z</cp:lastPrinted>
  <dcterms:modified xsi:type="dcterms:W3CDTF">2008-09-04T19:22:16Z</dcterms:modified>
  <cp:revision>208</cp:revision>
  <dc:subject/>
  <dc:title>Training</dc:title>
</cp:coreProperties>
</file>